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gif" ContentType="image/gif"/>
  <Override PartName="/ppt/media/image5.wmf" ContentType="image/x-wmf"/>
  <Override PartName="/ppt/media/image3.gif" ContentType="image/gi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BEC6-BF11-45FB-922F-146E5DA65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DDDF-AD24-4064-AC29-F898562A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7F7A-4A23-4399-BDE9-8E4DD2AA5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8509-E6FF-4FC9-87FE-AD577A874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23BC8-F2B7-4802-AE6F-20D83269C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EE09E-363E-4976-8ECB-A0CAD8466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53E19-AE65-4409-84D7-37C3099C9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D9B98-B25F-456E-BA11-8FA227A5D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C1852-3632-4245-AC4F-9586ECBA3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91CC8-FA68-4522-B3DB-3A5011D9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DFD27-851C-4011-A178-34377F7C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12AB-3FF8-422A-AA29-8ACFFB7C8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CF7E9-602A-4D05-BF8B-B0421A83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DAE73-F13F-4BAA-87DD-FF029E38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38EEE-586A-463C-9F25-0847A2947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258B4-A4B2-4DE2-AF35-F7A020EB9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1C26C-F1EF-472E-B89F-3418C408F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488D-0EF5-4EC3-972E-B80630A47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8F6F-BD69-404C-ACAE-19216864C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B8D7-1652-4A67-822D-F2AA9C756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4EBD-90D7-46A7-BF67-E2C95EC67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6AEA-EBA2-4706-A9AB-F2661F0D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4F3B-8545-4763-9F3A-B13337AD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94B5-D9A7-4EA6-B81D-8600067D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41EC4-4B99-458B-ABE6-692D47C4E2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2ED42-FCCF-4A4C-8444-8266940677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6560" y="3573000"/>
            <a:ext cx="7844040" cy="18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Тема: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i="1" lang="en-US" sz="4800" spc="-1" strike="noStrike">
                <a:solidFill>
                  <a:srgbClr val="ccecff"/>
                </a:solidFill>
                <a:latin typeface="Arial"/>
              </a:rPr>
              <a:t>Компьютерные игры, как средство развития математических представлений у детей дошкольного возраста.</a:t>
            </a: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156360" y="55440"/>
            <a:ext cx="2592360" cy="17179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539640" y="189000"/>
            <a:ext cx="2160720" cy="159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Основной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11280" y="1989000"/>
            <a:ext cx="2448000" cy="3961080"/>
          </a:xfrm>
          <a:prstGeom prst="flowChartProcess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Деятельность участников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Анализ проблем, формулировка зада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Выбор критериев оценивания результат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Систематизировать план конкретных действ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084720" y="1989000"/>
            <a:ext cx="2448000" cy="3888000"/>
          </a:xfrm>
          <a:prstGeom prst="flowChartProcess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Деятельность педагог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Помогает в анализе, наблюдает, контролиру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Формирует необходимые умения и навы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132000" y="1989000"/>
            <a:ext cx="2880000" cy="396108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Задач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Планирование действий по разрешение пробле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рагматический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11280" y="1844640"/>
            <a:ext cx="2232000" cy="4176720"/>
          </a:xfrm>
          <a:prstGeom prst="flowChartProcess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Деятельность участников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Выполняют исследование.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940360" y="1989000"/>
            <a:ext cx="2448000" cy="4032360"/>
          </a:xfrm>
          <a:prstGeom prst="flowChartProcess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Деятельность педагог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Наблюдает, консультирует, контролируе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916360" y="1700280"/>
            <a:ext cx="3024000" cy="432108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Задач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Поиск информации, которая обрабатывается, осмысливается и представляет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Заключительный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9640" y="1844640"/>
            <a:ext cx="144720" cy="71640"/>
          </a:xfrm>
          <a:custGeom>
            <a:avLst/>
            <a:gdLst>
              <a:gd name="textAreaLeft" fmla="*/ 4320 w 144720"/>
              <a:gd name="textAreaRight" fmla="*/ 140400 w 144720"/>
              <a:gd name="textAreaTop" fmla="*/ 4320 h 71640"/>
              <a:gd name="textAreaBottom" fmla="*/ 67320 h 71640"/>
            </a:gdLst>
            <a:ahLst/>
            <a:rect l="textAreaLeft" t="textAreaTop" r="textAreaRight" b="textAreaBottom"/>
            <a:pathLst>
              <a:path w="43524" h="21600">
                <a:moveTo>
                  <a:pt x="0" y="0"/>
                </a:moveTo>
                <a:lnTo>
                  <a:pt x="43524" y="0"/>
                </a:lnTo>
                <a:lnTo>
                  <a:pt x="43524" y="21600"/>
                </a:lnTo>
                <a:lnTo>
                  <a:pt x="0" y="21600"/>
                </a:lnTo>
                <a:close/>
              </a:path>
              <a:path fill="lightenLess" w="43524" h="21600">
                <a:moveTo>
                  <a:pt x="0" y="0"/>
                </a:moveTo>
                <a:lnTo>
                  <a:pt x="43524" y="0"/>
                </a:lnTo>
                <a:lnTo>
                  <a:pt x="42124" y="1400"/>
                </a:lnTo>
                <a:lnTo>
                  <a:pt x="1400" y="1400"/>
                </a:lnTo>
                <a:close/>
              </a:path>
              <a:path fill="darken" w="43524" h="21600">
                <a:moveTo>
                  <a:pt x="43524" y="0"/>
                </a:moveTo>
                <a:lnTo>
                  <a:pt x="43524" y="21600"/>
                </a:lnTo>
                <a:lnTo>
                  <a:pt x="42124" y="20200"/>
                </a:lnTo>
                <a:lnTo>
                  <a:pt x="42124" y="1400"/>
                </a:lnTo>
                <a:close/>
              </a:path>
              <a:path fill="darkenLess" w="43524" h="21600">
                <a:moveTo>
                  <a:pt x="435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124" y="20200"/>
                </a:lnTo>
                <a:close/>
              </a:path>
              <a:path fill="lighten" w="435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11280" y="1989000"/>
            <a:ext cx="2376360" cy="3961080"/>
          </a:xfrm>
          <a:prstGeom prst="flowChartProcess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Деятельность участников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Оформляют проект, изготавливают продук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Анализируют выполненный проек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Выясняют причины успехов, неуда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156360" y="2060640"/>
            <a:ext cx="2232000" cy="3960720"/>
          </a:xfrm>
          <a:prstGeom prst="flowChartProcess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Деятельность педагог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Наблюдает, совету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Помогает в обеспечении проек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059280" y="1916280"/>
            <a:ext cx="3025440" cy="410508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Задач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Анализ хода и результатов деятель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Итоговый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4360" y="1989000"/>
            <a:ext cx="2592360" cy="3961080"/>
          </a:xfrm>
          <a:prstGeom prst="flowChartProcess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Деятельность участников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Защищают проек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940360" y="2133720"/>
            <a:ext cx="2592360" cy="3816360"/>
          </a:xfrm>
          <a:prstGeom prst="flowChartProcess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Деятельность педагог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Участвует в коллективном анализе и оценке результат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348000" y="1916280"/>
            <a:ext cx="2519280" cy="38178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Задач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Представление готового продук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Вопросы проект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Какое значение играют компьютерные и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Какие компьютерные  игры необходимо использовать в ДО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Какие математические представления необходимо развивать у детей дошкольного возрас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Как необходимо организовывать деятельность детей для развития математических представлений посредством компьютерных игр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Какие компьютерные игры способствуют развитию математических представлений детей дошкольного возраста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11280" y="115920"/>
            <a:ext cx="136836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Участники проект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едагоги и студенты педагогических учебных заведе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268360" y="3141720"/>
            <a:ext cx="424980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Цель проекта: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ать знания педагогам и студентам о компьютерных играх как средстве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развития математических представлений у детей дошкольного возраста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6516720" y="260280"/>
            <a:ext cx="2376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Задачи проект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Сформировать представления педагогов и студентов  о компьютерных играх, как средстве развития математических представлений у детей дошкольного возрас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Научить использовать средств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развития математических представлений у детей дошкольного возрас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Показать практическое значение использования компьютерных игр, как средства развития математических представлений у детей дошкольного возраста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223200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Содержание проект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В данном проекте рассматриваются проблемы использования компьютерных игр для развития математических представлений. Значение использования компьютерных игр, развитие математических представлений детей дошкольного возраста, также применение компьютерных игр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лан проведения работ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Дать знания педагогам и студентам  о компьютерных играх, как средстве развития математических представлений у детей дошкольного возрас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651640" y="4005360"/>
            <a:ext cx="179532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Этапы работы над проектом: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нициирующ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сновополагающ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агматиче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ключитель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тогов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Инициирующий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2421000"/>
            <a:ext cx="3672000" cy="3168720"/>
          </a:xfrm>
          <a:prstGeom prst="leftRightArrow">
            <a:avLst>
              <a:gd name="adj1" fmla="val 50000"/>
              <a:gd name="adj2" fmla="val 23069"/>
            </a:avLst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Задач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Определение пробле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Формулирование вопро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11280" y="2708280"/>
            <a:ext cx="2089080" cy="3241800"/>
          </a:xfrm>
          <a:prstGeom prst="flowChartProcess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Деятельность участников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Определение темы, уточнение це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Выбор рабочей групп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516720" y="2708280"/>
            <a:ext cx="1942920" cy="3241800"/>
          </a:xfrm>
          <a:prstGeom prst="flowChartProcess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Деятельность педагог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Мотивирует учащихся, объясняет цели, наблюда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Ставит цели и задачи обучения, развития, воспит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9T09:33:28Z</dcterms:created>
  <dc:creator>Студент</dc:creator>
  <dc:description/>
  <dc:language>en-US</dc:language>
  <cp:lastModifiedBy>Наташа</cp:lastModifiedBy>
  <dcterms:modified xsi:type="dcterms:W3CDTF">2009-05-22T15:00:18Z</dcterms:modified>
  <cp:revision>9</cp:revision>
  <dc:subject/>
  <dc:title>Тема: Компьютерные игры, как средство развития математических представлений у детей дошкольного возраста. </dc:title>
</cp:coreProperties>
</file>